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278-0E4C-4512-B3CF-F1C68D9E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0468-F7A4-4E7A-B2C7-0CD0C8C7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5963-B124-465A-B841-BFD64974A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71E-0589-4998-AACC-2E3427442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83B2-59C2-47EB-B237-EC891152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B055-40E3-436C-9788-8D7046684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4BA-A283-4881-9A87-DB5B940C8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9256-A09E-454F-A98C-B5B9022E8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3E0E-C597-4EE4-9554-CB3F2103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405-F9EC-4B71-AA16-9A7049ECA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F65-DC2B-47CE-8A84-DF197B7C3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F636-4739-43DB-B99C-139A0A927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2BD3B-2218-49C2-AC0F-DB849C828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305C-2AD0-4786-9C9C-1C5D263FB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1F1-D906-4CF3-BFFD-B33B7D9A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404-0440-49C7-BC46-0E43A5B62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68CB-F2C0-4DDB-BD40-34EA9918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9956-8CF8-458D-93F0-74ADDFFA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993A-01B3-41E1-A8DC-6032F383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8808-FBB0-4211-BC2E-CC994906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B9BB-FEE5-4FB1-B9CA-29548A8B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63AD-CDC2-498D-B3CC-4B4AA2DA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2417-8894-4FBD-9B67-2C2353E2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D658-A510-49EE-BA30-EE62296E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7142-FA98-404E-AF0B-B90163EA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CAC5-7B93-4D2B-8CF4-4DCA7A6B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9A1E-1B88-4C54-9985-6575B41B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EC16-4025-4938-BBFA-84A2A294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2A12-85C5-449B-ABD8-13CCCE724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775-ED5C-4F64-842A-05972730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3936-6D1B-4BCE-AA1D-5BF39EA72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4255-984C-4CD7-9EC4-826F22FC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A3B-EA83-4AC8-BF3F-9DAFB723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C18-AEA0-410F-A27A-9E28EE3D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1035-79D0-44C5-BEC6-5889D9D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9E0-1F4F-4989-AB21-AD94AC2E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6EBC-02DF-4706-98D9-61986B2F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BC8F-96FB-4E62-A8BA-A9A2E57E0B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BF0F-5E45-4A6E-B29A-B5940B8E3C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7art-screensavers.com/screenshots/wild-animals/deer.jpg&amp;imgrefurl=http://www.7art-screensavers.com/wa.shtml&amp;h=600&amp;w=800&amp;sz=122&amp;tbnid=4adgBM_G3r8J:&amp;tbnh=106&amp;tbnw=141&amp;start=2&amp;prev=/images%3Fq%3Danimals%26hl%3Den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ological Productivity and Energy Flow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ough Food be Produced for Afric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can we grow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our Carr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ef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fficient are orgs at using energ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ve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of thumb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5" descr="heatflowimage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Picture 5" descr="trophic_levels_individuals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624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Figure 1.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4648320" y="6019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6248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t of organic matter in an ecosystem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ough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Towering Redwood Tree"/>
          <p:cNvPicPr/>
          <p:nvPr/>
        </p:nvPicPr>
        <p:blipFill>
          <a:blip r:embed="rId1"/>
          <a:stretch/>
        </p:blipFill>
        <p:spPr>
          <a:xfrm>
            <a:off x="5972040" y="1719360"/>
            <a:ext cx="2333880" cy="21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e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2240" y="4392720"/>
            <a:ext cx="2685960" cy="201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Dead Coyote"/>
          <p:cNvPicPr/>
          <p:nvPr/>
        </p:nvPicPr>
        <p:blipFill>
          <a:blip r:embed="rId4"/>
          <a:stretch/>
        </p:blipFill>
        <p:spPr>
          <a:xfrm>
            <a:off x="685800" y="3429000"/>
            <a:ext cx="4229280" cy="2895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685800" y="6477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, animals and dead are all bio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mass is measur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rough grow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valanche%20scar%20spruce%20"/>
          <p:cNvPicPr/>
          <p:nvPr/>
        </p:nvPicPr>
        <p:blipFill>
          <a:blip r:embed="rId1"/>
          <a:stretch/>
        </p:blipFill>
        <p:spPr>
          <a:xfrm>
            <a:off x="4753080" y="1719360"/>
            <a:ext cx="38275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moautotroph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that 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organic compounds (like sulf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make their own food and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Endeavour Hot Vent Photograph"/>
          <p:cNvPicPr/>
          <p:nvPr/>
        </p:nvPicPr>
        <p:blipFill>
          <a:blip r:embed="rId1"/>
          <a:stretch/>
        </p:blipFill>
        <p:spPr>
          <a:xfrm>
            <a:off x="533520" y="38098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acterial mats near methane seep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502920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ite-ish area is a bacterial m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ing on methane from beneath the ocean fl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4300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thermal 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ystems are all open to energy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n          food chain           heat rel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not used is lost (as heat)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3623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8769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duke4"/>
          <p:cNvPicPr/>
          <p:nvPr/>
        </p:nvPicPr>
        <p:blipFill>
          <a:blip r:embed="rId1"/>
          <a:stretch/>
        </p:blipFill>
        <p:spPr>
          <a:xfrm>
            <a:off x="6019920" y="3505320"/>
            <a:ext cx="2895480" cy="299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catbig1"/>
          <p:cNvPicPr/>
          <p:nvPr/>
        </p:nvPicPr>
        <p:blipFill>
          <a:blip r:embed="rId2"/>
          <a:stretch/>
        </p:blipFill>
        <p:spPr>
          <a:xfrm>
            <a:off x="304920" y="35053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t%20man"/>
          <p:cNvPicPr/>
          <p:nvPr/>
        </p:nvPicPr>
        <p:blipFill>
          <a:blip r:embed="rId3"/>
          <a:stretch/>
        </p:blipFill>
        <p:spPr>
          <a:xfrm>
            <a:off x="3276720" y="34290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Line 17"/>
          <p:cNvSpPr/>
          <p:nvPr/>
        </p:nvSpPr>
        <p:spPr>
          <a:xfrm flipH="1">
            <a:off x="5257800" y="3200400"/>
            <a:ext cx="76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943600" y="3200400"/>
            <a:ext cx="990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 flipH="1">
            <a:off x="2666880" y="3200400"/>
            <a:ext cx="23623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4114800"/>
            <a:ext cx="7924680" cy="1676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ential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move back and forth between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ropy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easure of disorder, wasted energy - becomes more random, can be sound or light but is mostly heat, everything always moves towards en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The laws of thermodynam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1st Law – conservation of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2nd Law- entropy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moves to a less organize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iving cells are holding off the forces of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opy b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hanneling 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low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e w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Picture: Whooping crane foodweb"/>
          <p:cNvPicPr/>
          <p:nvPr/>
        </p:nvPicPr>
        <p:blipFill>
          <a:blip r:embed="rId1"/>
          <a:stretch/>
        </p:blipFill>
        <p:spPr>
          <a:xfrm>
            <a:off x="3124080" y="762120"/>
            <a:ext cx="6019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5:28Z</dcterms:created>
  <dc:creator>tosborne</dc:creator>
  <dc:description/>
  <dc:language>en-US</dc:language>
  <cp:lastModifiedBy>infosys</cp:lastModifiedBy>
  <dcterms:modified xsi:type="dcterms:W3CDTF">2013-10-22T22:03:57Z</dcterms:modified>
  <cp:revision>19</cp:revision>
  <dc:subject/>
  <dc:title>Chapter 8 Biological Productivity and Energy Flow</dc:title>
</cp:coreProperties>
</file>